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60640" y="-360"/>
            <a:ext cx="29498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60640" y="9443520"/>
            <a:ext cx="29498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itigateFrutiger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39F699-8CCC-4B77-8352-B03C44045AE4}" type="slidenum">
              <a:rPr b="0" lang="en-GB" sz="1200" spc="-1" strike="noStrike">
                <a:solidFill>
                  <a:srgbClr val="000000"/>
                </a:solidFill>
                <a:latin typeface="CitigateFrutiger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60640" y="9443880"/>
            <a:ext cx="29498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4985C1-833F-47CB-825B-DF4011846A2F}" type="slidenum">
              <a:rPr b="0" lang="en-GB" sz="1200" spc="-1" strike="noStrike">
                <a:solidFill>
                  <a:srgbClr val="c1131e"/>
                </a:solidFill>
                <a:latin typeface="CitigateFrutigerLight"/>
              </a:rPr>
              <a:t>&lt;number&gt;</a:t>
            </a:fld>
            <a:endParaRPr b="0" lang="en-US" sz="12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7560" y="4723920"/>
            <a:ext cx="499428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60640" y="9443880"/>
            <a:ext cx="29498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999A04-2876-4A5E-8EE3-AFAB0472D6D0}" type="slidenum">
              <a:rPr b="0" lang="en-GB" sz="1200" spc="-1" strike="noStrike">
                <a:solidFill>
                  <a:srgbClr val="c1131e"/>
                </a:solidFill>
                <a:latin typeface="CitigateFrutigerLight"/>
              </a:rPr>
              <a:t>&lt;number&gt;</a:t>
            </a:fld>
            <a:endParaRPr b="0" lang="en-US" sz="12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9C3-40A1-446B-9029-5A36562D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9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27D-0EBF-4C48-949F-68DFB08D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9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CE8-FC7F-47A4-B482-43BF8FBA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9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7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348-F4DD-487A-A901-0367B0D8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3B18-0205-4FC7-AF6D-9FACCD19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A76A-337C-4552-809A-D0918F62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76B9-13F3-4213-A53A-E063C9F6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8EB4-F1A3-4FBD-B5C9-C6D92F62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6E32-012E-4F26-909D-3381B7D4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9280" y="228240"/>
            <a:ext cx="82771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06EE-2240-47CE-9385-698FBF06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9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64C7-CEDF-4805-9D35-84418CAF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C5B-C37D-4918-9922-83257CE6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1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5939-66F7-4D98-8FEA-098B639A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9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C4EC-75B6-47C4-AAA0-D3D89121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9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1B53-A6A5-44E1-8E4A-EF14BFAC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9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1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2017-0606-407D-A662-D2E3C883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9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7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4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E108-9DA7-4391-9D3B-6F0339D7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FCC-8897-455F-9729-2FBB2D1A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2DB-406B-428D-A625-A37088AD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DEB-5918-4173-BFC9-567419B6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9280" y="228240"/>
            <a:ext cx="82771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555-956F-4ACF-87CE-B92A18E1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9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193-CEF6-4E1F-9295-138B2ED5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225-DEC1-485F-AE6D-880AF608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9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2F5-C548-4C1D-9043-6EA206AB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1511280"/>
          </a:xfrm>
          <a:prstGeom prst="rect">
            <a:avLst/>
          </a:prstGeom>
          <a:solidFill>
            <a:srgbClr val="c113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2" marL="114300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3" marL="156204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4" marL="198108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5" marL="198108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6" marL="198108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4AE2-3616-4567-B70E-A83E2B146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c1131e"/>
          </a:solidFill>
          <a:ln w="9360">
            <a:solidFill>
              <a:srgbClr val="c11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2" marL="114300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3" marL="156204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4" marL="198108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5" marL="198108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lvl="6" marL="1981080" indent="-22860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1131e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99ED-569D-4348-ACE0-CA1C03174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qub.ac.uk/directorates/FinanceDirectorate/Procurement/ProcurementforResearch/InvestNIFundingSpecificProcurementProcedure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presentation background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87631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4"/>
          <p:cNvGrpSpPr/>
          <p:nvPr/>
        </p:nvGrpSpPr>
        <p:grpSpPr>
          <a:xfrm>
            <a:off x="6248520" y="977760"/>
            <a:ext cx="2412720" cy="5346720"/>
            <a:chOff x="6248520" y="977760"/>
            <a:chExt cx="2412720" cy="5346720"/>
          </a:xfrm>
        </p:grpSpPr>
        <p:sp>
          <p:nvSpPr>
            <p:cNvPr id="93" name="AutoShape 4"/>
            <p:cNvSpPr/>
            <p:nvPr/>
          </p:nvSpPr>
          <p:spPr>
            <a:xfrm>
              <a:off x="7201080" y="243828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94" name="AutoShape 10"/>
            <p:cNvSpPr/>
            <p:nvPr/>
          </p:nvSpPr>
          <p:spPr>
            <a:xfrm>
              <a:off x="7670880" y="97776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95" name="AutoShape 12"/>
            <p:cNvSpPr/>
            <p:nvPr/>
          </p:nvSpPr>
          <p:spPr>
            <a:xfrm>
              <a:off x="6730920" y="3873600"/>
              <a:ext cx="99072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96" name="AutoShape 13"/>
            <p:cNvSpPr/>
            <p:nvPr/>
          </p:nvSpPr>
          <p:spPr>
            <a:xfrm>
              <a:off x="6248520" y="5334120"/>
              <a:ext cx="99036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4330800" y="977760"/>
            <a:ext cx="2412720" cy="5346720"/>
            <a:chOff x="4330800" y="977760"/>
            <a:chExt cx="2412720" cy="5346720"/>
          </a:xfrm>
        </p:grpSpPr>
        <p:sp>
          <p:nvSpPr>
            <p:cNvPr id="98" name="AutoShape 16"/>
            <p:cNvSpPr/>
            <p:nvPr/>
          </p:nvSpPr>
          <p:spPr>
            <a:xfrm>
              <a:off x="5283360" y="243828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99" name="AutoShape 17"/>
            <p:cNvSpPr/>
            <p:nvPr/>
          </p:nvSpPr>
          <p:spPr>
            <a:xfrm>
              <a:off x="5753160" y="97776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00" name="AutoShape 18"/>
            <p:cNvSpPr/>
            <p:nvPr/>
          </p:nvSpPr>
          <p:spPr>
            <a:xfrm>
              <a:off x="4813200" y="3873600"/>
              <a:ext cx="99072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01" name="AutoShape 19"/>
            <p:cNvSpPr/>
            <p:nvPr/>
          </p:nvSpPr>
          <p:spPr>
            <a:xfrm>
              <a:off x="4330800" y="5334120"/>
              <a:ext cx="99036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</p:grpSp>
      <p:grpSp>
        <p:nvGrpSpPr>
          <p:cNvPr id="102" name="Group 20"/>
          <p:cNvGrpSpPr/>
          <p:nvPr/>
        </p:nvGrpSpPr>
        <p:grpSpPr>
          <a:xfrm>
            <a:off x="2400480" y="977760"/>
            <a:ext cx="2412720" cy="5346720"/>
            <a:chOff x="2400480" y="977760"/>
            <a:chExt cx="2412720" cy="5346720"/>
          </a:xfrm>
        </p:grpSpPr>
        <p:sp>
          <p:nvSpPr>
            <p:cNvPr id="103" name="AutoShape 21"/>
            <p:cNvSpPr/>
            <p:nvPr/>
          </p:nvSpPr>
          <p:spPr>
            <a:xfrm>
              <a:off x="3353040" y="243828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04" name="AutoShape 22"/>
            <p:cNvSpPr/>
            <p:nvPr/>
          </p:nvSpPr>
          <p:spPr>
            <a:xfrm>
              <a:off x="3822840" y="97776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05" name="AutoShape 23"/>
            <p:cNvSpPr/>
            <p:nvPr/>
          </p:nvSpPr>
          <p:spPr>
            <a:xfrm>
              <a:off x="2882880" y="3873600"/>
              <a:ext cx="99072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06" name="AutoShape 24"/>
            <p:cNvSpPr/>
            <p:nvPr/>
          </p:nvSpPr>
          <p:spPr>
            <a:xfrm>
              <a:off x="2400480" y="5334120"/>
              <a:ext cx="99036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</p:grpSp>
      <p:grpSp>
        <p:nvGrpSpPr>
          <p:cNvPr id="107" name="Group 25"/>
          <p:cNvGrpSpPr/>
          <p:nvPr/>
        </p:nvGrpSpPr>
        <p:grpSpPr>
          <a:xfrm>
            <a:off x="482760" y="977760"/>
            <a:ext cx="2412720" cy="5346720"/>
            <a:chOff x="482760" y="977760"/>
            <a:chExt cx="2412720" cy="5346720"/>
          </a:xfrm>
        </p:grpSpPr>
        <p:sp>
          <p:nvSpPr>
            <p:cNvPr id="108" name="AutoShape 26"/>
            <p:cNvSpPr/>
            <p:nvPr/>
          </p:nvSpPr>
          <p:spPr>
            <a:xfrm>
              <a:off x="1435320" y="243828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09" name="AutoShape 27"/>
            <p:cNvSpPr/>
            <p:nvPr/>
          </p:nvSpPr>
          <p:spPr>
            <a:xfrm>
              <a:off x="1905120" y="977760"/>
              <a:ext cx="990360" cy="99072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10" name="AutoShape 28"/>
            <p:cNvSpPr/>
            <p:nvPr/>
          </p:nvSpPr>
          <p:spPr>
            <a:xfrm>
              <a:off x="965160" y="3873600"/>
              <a:ext cx="99072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  <p:sp>
          <p:nvSpPr>
            <p:cNvPr id="111" name="AutoShape 29"/>
            <p:cNvSpPr/>
            <p:nvPr/>
          </p:nvSpPr>
          <p:spPr>
            <a:xfrm>
              <a:off x="482760" y="5334120"/>
              <a:ext cx="990360" cy="990360"/>
            </a:xfrm>
            <a:prstGeom prst="flowChartDecision">
              <a:avLst/>
            </a:prstGeom>
            <a:solidFill>
              <a:srgbClr val="c113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1131e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82760" y="1483920"/>
            <a:ext cx="8410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131e"/>
              </a:solidFill>
              <a:latin typeface="Arial"/>
            </a:endParaRPr>
          </a:p>
          <a:p>
            <a:pPr algn="ctr">
              <a:lnSpc>
                <a:spcPts val="43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1131e"/>
              </a:solidFill>
              <a:latin typeface="Arial"/>
            </a:endParaRPr>
          </a:p>
          <a:p>
            <a:pPr algn="ctr">
              <a:lnSpc>
                <a:spcPts val="43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1131e"/>
              </a:solidFill>
              <a:latin typeface="Arial"/>
            </a:endParaRPr>
          </a:p>
          <a:p>
            <a:pPr algn="ctr">
              <a:lnSpc>
                <a:spcPts val="43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vest NI Funded Research Grants</a:t>
            </a:r>
            <a:endParaRPr b="0" lang="en-US" sz="4000" spc="-1" strike="noStrike">
              <a:solidFill>
                <a:srgbClr val="c1131e"/>
              </a:solidFill>
              <a:latin typeface="Arial"/>
            </a:endParaRPr>
          </a:p>
          <a:p>
            <a:pPr algn="ctr">
              <a:lnSpc>
                <a:spcPts val="43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 Procurement Procedures</a:t>
            </a:r>
            <a:endParaRPr b="0" lang="en-US" sz="40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algn="r">
              <a:lnSpc>
                <a:spcPts val="2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nday 8 December 2014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  <p:pic>
        <p:nvPicPr>
          <p:cNvPr id="113" name="Picture 1036" descr="N:\Design M-Z\Queens\logos\Logo styles\Keylines WhiteOut Clr\Diamonds KEY4.gif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6072120" y="1214280"/>
            <a:ext cx="259092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evt="end">
                                        <p:tn val="10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0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has Chang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19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1131e"/>
                </a:solidFill>
                <a:latin typeface="Arial"/>
              </a:rPr>
              <a:t>&lt;£2,500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Use existing contracts where feasible which comply with INI procurement regulation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Obtain 2 price checks from 2 different suppliers (via internet search, email or verbal price check)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Records must be retained for inspection via INI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1131e"/>
                </a:solidFill>
                <a:latin typeface="Arial"/>
              </a:rPr>
              <a:t>£2,500 to £30,000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Use existing contracts where feasible which comply with INI procurement regulation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Obtain 2 tenders from 2 different suppliers 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Records must be retained for inspection via INI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taking a Tender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90120" y="1557000"/>
            <a:ext cx="70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c1131e"/>
                </a:solidFill>
                <a:uFillTx/>
                <a:latin typeface="Arial"/>
                <a:ea typeface="Arial"/>
              </a:rPr>
              <a:t>Specifying the Goods/Service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Specification – input or output base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Use of brand names not permitte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Select evaluation criteria (Price Only or Price/Quality)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Tenders issued at the same time with closing date and time stipulate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c1131e"/>
                </a:solidFill>
                <a:uFillTx/>
                <a:latin typeface="Arial"/>
                <a:ea typeface="Arial"/>
              </a:rPr>
              <a:t>Receipt and Evaluation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Tenders opened at same time and replies recorde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Evaluated and scored against the criteria outline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taking a Tender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c1131e"/>
                </a:solidFill>
                <a:uFillTx/>
                <a:latin typeface="Arial"/>
                <a:ea typeface="Arial"/>
              </a:rPr>
              <a:t>Awar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Award decision communicated to all tenders within 15 days of outcome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Feedback provided to unsuccessful bidder if requested (NB must not include commercially sensitive information)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Raise purchase order and provide tender documentation to Procurement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To access INI tender templates or obtain further advice or guidance, please refer to the Procurement Office website or speak to the Procurement Team: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a400"/>
                </a:solidFill>
                <a:uFillTx/>
                <a:latin typeface="Arial"/>
                <a:ea typeface="Arial"/>
                <a:hlinkClick r:id="rId1"/>
              </a:rPr>
              <a:t>http://www.qub.ac.uk/directorates/FinanceDirectorate/Procurement/ProcurementforResearch/InvestNIFundingSpecificProcurementProcedure/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e Source 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8920" y="2205000"/>
            <a:ext cx="7597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Strongly discourage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If unavoidable, a Sole Source Supplier Declaration must be completed and include justification for use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Completed Declarations must be approved by the relevant signatories prior to order being raised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b0305"/>
                </a:solidFill>
                <a:latin typeface="Arial"/>
              </a:rPr>
              <a:t>Template Sole Source Supplier Declarations are available from the Procurement Office website</a:t>
            </a:r>
            <a:endParaRPr b="0" lang="en-US" sz="12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1131e"/>
                </a:solidFill>
                <a:latin typeface="Arial"/>
              </a:rPr>
              <a:t>http://www.qub.ac.uk/directorates/FinanceDirectorate/Procurement/ProcurementforResearch/InvestNIFundingSpecificProcurementProcedure/</a:t>
            </a:r>
            <a:endParaRPr b="0" lang="en-US" sz="12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e Source 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Content Placeholder 3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553440" cy="28083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703440" y="4797360"/>
            <a:ext cx="74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A template for Sole Source Supplier Declarations is available from the Procurement Office website: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http://www.qub.ac.uk/directorates/FinanceDirectorate/Procurement/ProcurementforResearch/InvestNIFundingSpecificProcurementProcedure/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1131e"/>
                </a:solidFill>
                <a:latin typeface="Arial"/>
              </a:rPr>
              <a:t>Revised procurement procedures for Invest NI funded research grants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1131e"/>
                </a:solidFill>
                <a:latin typeface="Arial"/>
              </a:rPr>
              <a:t>Immediate effect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1131e"/>
                </a:solidFill>
                <a:latin typeface="Arial"/>
              </a:rPr>
              <a:t>Weblink included for further information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29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1131e"/>
                </a:solidFill>
                <a:latin typeface="Arial"/>
              </a:rPr>
              <a:t>Finance Directorate staff in Procurement and Research Finance Offices can provide further guidance if required.</a:t>
            </a: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60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131e"/>
                </a:solidFill>
                <a:latin typeface="Arial"/>
                <a:ea typeface="Arial"/>
              </a:rPr>
              <a:t>Heather Hamilton, Deputy Director of Finance</a:t>
            </a: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60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131e"/>
                </a:solidFill>
                <a:latin typeface="Arial"/>
                <a:ea typeface="Arial"/>
              </a:rPr>
              <a:t>David Robinson, Head of Research Finance</a:t>
            </a: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60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131e"/>
                </a:solidFill>
                <a:latin typeface="Arial"/>
                <a:ea typeface="Arial"/>
              </a:rPr>
              <a:t>Jackie Glackin, Head of Procurement (Acting)</a:t>
            </a: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Welcome and introduction 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Heather Hamilto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Context and background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David Robinso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Changes to procurement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Jackie Glacki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Summary of requirements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Jackie Glacki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Undertaking a Invest NI Tender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Jackie Glacki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Sole Source Supplies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Jackie Glacki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Summary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Heather Hamilton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 algn="just">
              <a:lnSpc>
                <a:spcPts val="3600"/>
              </a:lnSpc>
              <a:spcBef>
                <a:spcPts val="499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1131e"/>
                </a:solidFill>
                <a:latin typeface="Arial"/>
                <a:ea typeface="Arial"/>
              </a:rPr>
              <a:t>Questions</a:t>
            </a: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  <a:p>
            <a:pPr marL="332640" indent="-332640">
              <a:lnSpc>
                <a:spcPts val="29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lcome and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Communications in November 2014 to: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Heads of School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School Manager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Principal Investigator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Nominated Buyer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Changes in Procurement Procedures – Invest NI Funded Research Grant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Series of Information Sessions for staff with ‘live’ Invest NI project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Immediate effect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4" marL="1981080" indent="-2286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earch Funding From Invest 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1928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1131e"/>
                </a:solidFill>
                <a:uFillTx/>
                <a:latin typeface="Arial"/>
                <a:ea typeface="Arial"/>
              </a:rPr>
              <a:t>Context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2013-14: 38 new grants awarded; value £4.9m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2013-14: research income of £4.7m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Total portfolio of live 70+ grants; value £20.8m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1131e"/>
                </a:solidFill>
                <a:uFillTx/>
                <a:latin typeface="Arial"/>
                <a:ea typeface="Arial"/>
              </a:rPr>
              <a:t>Programmes included</a:t>
            </a: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Grants for R&amp;D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Proof of Concept Programme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Competence Centre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START Programme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c1131e"/>
                </a:solidFill>
                <a:uFillTx/>
                <a:latin typeface="Arial"/>
                <a:ea typeface="Arial"/>
              </a:rPr>
              <a:t>Invest NI is an important source of funding for research at Queen’s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sons for the Changes in Procurement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01640" y="170028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131e"/>
                </a:solidFill>
                <a:latin typeface="Arial"/>
                <a:ea typeface="Calibri"/>
              </a:rPr>
              <a:t>Invest NI Funding - EU ERDF Programme for Northern Ireland known as the EU’s Sustainable Competitiveness Programme (EUSCP)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131e"/>
                </a:solidFill>
                <a:latin typeface="Arial"/>
                <a:ea typeface="Arial"/>
              </a:rPr>
              <a:t>ERDF expenditure must comply with CPD’s procurement policy and procedures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131e"/>
                </a:solidFill>
                <a:latin typeface="Arial"/>
                <a:ea typeface="Arial"/>
              </a:rPr>
              <a:t>For NI, ERDF compliance is overseen by the Department of Enterprise, Trade and Industry (DETI)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131e"/>
                </a:solidFill>
                <a:latin typeface="Arial"/>
                <a:ea typeface="Arial"/>
              </a:rPr>
              <a:t>DETI undertook a review of Invest NI’s vouching process to ensure compliance and identified that Invest NI were not checking that University spend on grants was complying with CPD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1131e"/>
                </a:solidFill>
                <a:latin typeface="Arial"/>
                <a:ea typeface="Arial"/>
              </a:rPr>
              <a:t>Invest NI informed both NI Universities in Autumn 2013 that compliance with CPD procedures would in future be included in vouching of expenditure on grants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sons for the Changes in Procurement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1928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We compared University purchasing procedures to CPD requirements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Identified number of differences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Prolonged discussion with Invest NI – to convince them that existing University’s procurement procedures were robust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Conclusion – Invest NI not prepared to move on this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Formal notification was issued to UU and Queen’s in the Summer 2014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If we accept Invest NI funding then we must play by the CPD rules. 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524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9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University must demonstrate that all relevant expenditure on grants complies with CPD regulations – checks made in vouching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Where we cannot demonstrate compliance with CPD – ‘financial penalties’ will be applied (i.e. costs disallowed)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Result – bespoke procedures for procurement on Invest NI grants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Attempted to minimise the differences in approach – aimed to keep requirements as simple as possible but still compliant with CPD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113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131e"/>
                </a:solidFill>
                <a:latin typeface="Arial"/>
                <a:ea typeface="Arial"/>
              </a:rPr>
              <a:t>Very conscious of the impact of these changes on all involved.</a:t>
            </a: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  <a:p>
            <a:pPr marL="343080" indent="-343080" algn="just">
              <a:lnSpc>
                <a:spcPts val="29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131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9280" y="228240"/>
            <a:ext cx="82771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has Chang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29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131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1131e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00000" y="1989000"/>
          <a:ext cx="7559640" cy="4373640"/>
        </p:xfrm>
        <a:graphic>
          <a:graphicData uri="http://schemas.openxmlformats.org/drawingml/2006/table">
            <a:tbl>
              <a:tblPr/>
              <a:tblGrid>
                <a:gridCol w="2016360"/>
                <a:gridCol w="2519280"/>
                <a:gridCol w="3024000"/>
              </a:tblGrid>
              <a:tr h="80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urement Threshold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131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rrent Procedure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131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w Procedure 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INI Funding Only)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131e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&lt;£2,500 (ex VAT)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Use existing contracts or direct purchase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Use existing contracts or obtain at least 2 price checks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ccc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£2,500 to £30,000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Use existing contracts or obtain 3 quotations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Use existing contracts or obtain at least 2 competitive tenders 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7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&gt; £30,000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A public tender must be undertaken by the Procurement Team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c1131e"/>
                          </a:solidFill>
                          <a:latin typeface="Arial"/>
                          <a:ea typeface="Arial"/>
                        </a:rPr>
                        <a:t>As current procedure</a:t>
                      </a:r>
                      <a:endParaRPr b="0" lang="en-US" sz="1800" spc="-1" strike="noStrike">
                        <a:solidFill>
                          <a:srgbClr val="c113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09:54:44Z</dcterms:created>
  <dc:creator>FrancineVerchin</dc:creator>
  <dc:description/>
  <dc:language>en-US</dc:language>
  <cp:lastModifiedBy>Buffie Alexandra Higgins</cp:lastModifiedBy>
  <cp:lastPrinted>2014-12-05T16:08:43Z</cp:lastPrinted>
  <dcterms:modified xsi:type="dcterms:W3CDTF">2014-12-08T12:44:58Z</dcterms:modified>
  <cp:revision>364</cp:revision>
  <dc:subject/>
  <dc:title>Click here for main title Click here for sub-title</dc:title>
</cp:coreProperties>
</file>