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0300C-CC7E-42BD-BB20-8325A5A04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32C74-0433-4039-A99D-747C34934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10978-A1AA-4C72-9907-88ACB2934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8353A-C08C-4134-BB52-7A65A0629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EB31F-E4AF-46B9-A0C2-5F0CD5698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749F-422F-48EE-B2F8-A85B065F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A661-E05C-448E-A069-9899D6E0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BDD2C-259B-4BC8-BADB-A17DDE0B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42CA-F3DD-4974-9F43-F052FB5DC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71E9-02BB-43D8-9B81-F49D89A1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C671-F784-4391-8B37-9E10693E2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873B-092F-458B-AFFD-C32D7D236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FCD1-2101-4122-92D0-8F4CC3572E1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3" descr=""/>
          <p:cNvPicPr/>
          <p:nvPr/>
        </p:nvPicPr>
        <p:blipFill>
          <a:blip r:embed="rId1"/>
          <a:stretch/>
        </p:blipFill>
        <p:spPr>
          <a:xfrm>
            <a:off x="828720" y="1268280"/>
            <a:ext cx="7284960" cy="4930920"/>
          </a:xfrm>
          <a:prstGeom prst="rect">
            <a:avLst/>
          </a:prstGeom>
          <a:ln w="0">
            <a:noFill/>
          </a:ln>
        </p:spPr>
      </p:pic>
      <p:sp>
        <p:nvSpPr>
          <p:cNvPr id="42" name="TextBox 2"/>
          <p:cNvSpPr/>
          <p:nvPr/>
        </p:nvSpPr>
        <p:spPr>
          <a:xfrm>
            <a:off x="1217160" y="425520"/>
            <a:ext cx="70570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en’s Management &amp; Leadership Framework</a:t>
            </a:r>
            <a:endParaRPr b="0" lang="en-US" sz="2400" spc="-1" strike="noStrike">
              <a:solidFill>
                <a:srgbClr val="000000"/>
              </a:solidFill>
              <a:latin typeface="Arial"/>
            </a:endParaRPr>
          </a:p>
        </p:txBody>
      </p:sp>
      <p:pic>
        <p:nvPicPr>
          <p:cNvPr id="43" name="Picture 4" descr=""/>
          <p:cNvPicPr/>
          <p:nvPr/>
        </p:nvPicPr>
        <p:blipFill>
          <a:blip r:embed="rId2"/>
          <a:stretch/>
        </p:blipFill>
        <p:spPr>
          <a:xfrm>
            <a:off x="709308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ounded Rectangle 4"/>
          <p:cNvSpPr/>
          <p:nvPr/>
        </p:nvSpPr>
        <p:spPr>
          <a:xfrm>
            <a:off x="1692360" y="17640"/>
            <a:ext cx="4991040" cy="6887880"/>
          </a:xfrm>
          <a:custGeom>
            <a:avLst/>
            <a:gdLst>
              <a:gd name="textAreaLeft" fmla="*/ 243360 w 4991040"/>
              <a:gd name="textAreaRight" fmla="*/ 4747680 w 4991040"/>
              <a:gd name="textAreaTop" fmla="*/ 243360 h 6887880"/>
              <a:gd name="textAreaBottom" fmla="*/ 6644520 h 6887880"/>
            </a:gdLst>
            <a:ahLst/>
            <a:rect l="textAreaLeft" t="textAreaTop" r="textAreaRight" b="textAreaBottom"/>
            <a:pathLst>
              <a:path w="21600" h="29808">
                <a:moveTo>
                  <a:pt x="3600" y="0"/>
                </a:moveTo>
                <a:arcTo wR="3600" hR="3600" stAng="16200000" swAng="-5400000"/>
                <a:lnTo>
                  <a:pt x="0" y="26208"/>
                </a:lnTo>
                <a:arcTo wR="3600" hR="3600" stAng="10800000" swAng="-5400000"/>
                <a:lnTo>
                  <a:pt x="18000" y="29808"/>
                </a:lnTo>
                <a:arcTo wR="3600" hR="3600" stAng="5400000" swAng="-5400000"/>
                <a:lnTo>
                  <a:pt x="21600" y="3600"/>
                </a:lnTo>
                <a:arcTo wR="3600" hR="3600" stAng="0" swAng="-5400000"/>
                <a:close/>
              </a:path>
            </a:pathLst>
          </a:custGeom>
          <a:solidFill>
            <a:srgbClr val="ebf1de">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1957320" y="42840"/>
            <a:ext cx="4572000" cy="648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Oth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Strategic Focus</a:t>
            </a:r>
            <a:r>
              <a:rPr b="0" lang="en-GB" sz="1000" spc="-1" strike="noStrike">
                <a:solidFill>
                  <a:srgbClr val="000000"/>
                </a:solidFill>
                <a:latin typeface="Arial"/>
                <a:ea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Appreciates the longer term view and strategic context and has the courage to give purpose and direction to take the University forw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understand and advocate the reasons behind the ambitious long term goals of the University and can effectively manage information to contribute to, formulate, translate and communicate strategic focus into realistic objectives for others. They are aware of the importance of Queen’s being connected both locally and globa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and Managing People and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Leads by example, manages people and their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are confident and professional in their leadership. They have credibility within their own specialism and within their leadership role evidenced by consistently delivering and accepting accountability for results against agreed key performance indicato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Calibri"/>
              </a:rPr>
              <a:t>They secure buy in and engagement of others by creating a positive and inclusive work environment, and promote a positive approach to achieving high performance by focusing on performance over process. They set clear expectations for others, upholding clear accountability against academic and/or professional standards.  They can effectively plan and allocate work to realise objectives according to the strengths of others and take clear actions to resolve issues with team or  individual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and Managing Chan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Anticipates, prepares for, initiates and implements change. Monitors and reviews change initiativ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appreciate the factors that lead to change, and adapt and act accordingly .They can maintain agility in performance by anticipating and responding flexibly to market demands and societal needs and initiating change where appropriate. They understand the concerns of others by communicating change reasons and implementation plans in a clear and timely manner.  To ensure change is managed successfully, they monitor and review change initiatives once implemented.</a:t>
            </a:r>
            <a:r>
              <a:rPr b="0" lang="en-GB" sz="1000" spc="-1" strike="noStrike">
                <a:solidFill>
                  <a:srgbClr val="76923c"/>
                </a:solidFill>
                <a:latin typeface="Arial"/>
                <a:ea typeface="Calibri"/>
              </a:rPr>
              <a:t> </a:t>
            </a:r>
            <a:endParaRPr b="0" lang="en-US" sz="1000" spc="-1" strike="noStrike">
              <a:solidFill>
                <a:srgbClr val="000000"/>
              </a:solidFill>
              <a:latin typeface="Arial"/>
            </a:endParaRPr>
          </a:p>
        </p:txBody>
      </p:sp>
      <p:sp>
        <p:nvSpPr>
          <p:cNvPr id="46" name="TextBox 5"/>
          <p:cNvSpPr/>
          <p:nvPr/>
        </p:nvSpPr>
        <p:spPr>
          <a:xfrm>
            <a:off x="6764040" y="249120"/>
            <a:ext cx="2149560" cy="5508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Full Description of Manag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 </a:t>
            </a:r>
            <a:r>
              <a:rPr b="1" lang="en-GB" sz="1000" spc="-1" strike="noStrike">
                <a:solidFill>
                  <a:srgbClr val="000000"/>
                </a:solidFill>
                <a:latin typeface="Arial"/>
                <a:ea typeface="Arial"/>
              </a:rPr>
              <a:t>&amp; Leadership behaviours und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t>
            </a:r>
            <a:r>
              <a:rPr b="1" lang="en-GB" sz="1000" spc="-1" strike="noStrike">
                <a:solidFill>
                  <a:srgbClr val="000000"/>
                </a:solidFill>
                <a:latin typeface="Arial"/>
                <a:ea typeface="Arial"/>
              </a:rPr>
              <a:t>Leading Others”</a:t>
            </a:r>
            <a:endParaRPr b="0" lang="en-US" sz="1000" spc="-1" strike="noStrike">
              <a:solidFill>
                <a:srgbClr val="000000"/>
              </a:solidFill>
              <a:latin typeface="Arial"/>
            </a:endParaRPr>
          </a:p>
        </p:txBody>
      </p:sp>
      <p:pic>
        <p:nvPicPr>
          <p:cNvPr id="47" name="Picture 5" descr=""/>
          <p:cNvPicPr/>
          <p:nvPr/>
        </p:nvPicPr>
        <p:blipFill>
          <a:blip r:embed="rId1"/>
          <a:stretch/>
        </p:blipFill>
        <p:spPr>
          <a:xfrm>
            <a:off x="709308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ounded Rectangle 4"/>
          <p:cNvSpPr/>
          <p:nvPr/>
        </p:nvSpPr>
        <p:spPr>
          <a:xfrm>
            <a:off x="1908000" y="214200"/>
            <a:ext cx="4878720" cy="6454800"/>
          </a:xfrm>
          <a:custGeom>
            <a:avLst/>
            <a:gdLst>
              <a:gd name="textAreaLeft" fmla="*/ 237960 w 4878720"/>
              <a:gd name="textAreaRight" fmla="*/ 4640760 w 4878720"/>
              <a:gd name="textAreaTop" fmla="*/ 237960 h 6454800"/>
              <a:gd name="textAreaBottom" fmla="*/ 6216840 h 6454800"/>
            </a:gdLst>
            <a:ahLst/>
            <a:rect l="textAreaLeft" t="textAreaTop" r="textAreaRight" b="textAreaBottom"/>
            <a:pathLst>
              <a:path w="21600" h="28577">
                <a:moveTo>
                  <a:pt x="3600" y="0"/>
                </a:moveTo>
                <a:arcTo wR="3600" hR="3600" stAng="16200000" swAng="-5400000"/>
                <a:lnTo>
                  <a:pt x="0" y="24977"/>
                </a:lnTo>
                <a:arcTo wR="3600" hR="3600" stAng="10800000" swAng="-5400000"/>
                <a:lnTo>
                  <a:pt x="18000" y="28577"/>
                </a:lnTo>
                <a:arcTo wR="3600" hR="3600" stAng="5400000" swAng="-5400000"/>
                <a:lnTo>
                  <a:pt x="21600" y="3600"/>
                </a:lnTo>
                <a:arcTo wR="3600" hR="3600" stAng="0" swAng="-5400000"/>
                <a:close/>
              </a:path>
            </a:pathLst>
          </a:custGeom>
          <a:gradFill rotWithShape="0">
            <a:gsLst>
              <a:gs pos="0">
                <a:srgbClr val="cb9a99"/>
              </a:gs>
              <a:gs pos="100000">
                <a:srgbClr val="eee1e1"/>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014560" y="333360"/>
            <a:ext cx="4572000" cy="816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Collaborative &amp; Interpersonal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Personal Skil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Is aware of and develops one’s own personal skills, knowledge, abilities and behaviou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understand and reflect on their own personal leadership style, and can adapt and hone it to suit a range of situations. They lead by example and display resilience and the ability to cope with pressure and conflicting deman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Calibri"/>
              </a:rPr>
              <a:t>They manage personal resources effectively and take personal ownership, responsibility and accountability for all their actions, including updating their own specialist knowledge, learning and developme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Interpersonal &amp; Organisational Awaren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s aware of the organisation’s culture and one’s own impact on oth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communicate effectively (orally and in writing), interact appropriately and network with others to foster beneficial internal and external relationships. They foster a culture of “one University” by understanding the organisational climate in which they work. They can set individual interests aside, supporting and actively implementing collaboration and interdisciplinary ways of working across the Institution</a:t>
            </a:r>
            <a:r>
              <a:rPr b="1" lang="en-GB" sz="1000" spc="-1" strike="noStrike">
                <a:solidFill>
                  <a:srgbClr val="000000"/>
                </a:solidFill>
                <a:latin typeface="Arial"/>
                <a:ea typeface="Calibri"/>
              </a:rPr>
              <a:t>.</a:t>
            </a:r>
            <a:r>
              <a:rPr b="0" lang="en-GB" sz="1000" spc="-1" strike="noStrike">
                <a:solidFill>
                  <a:srgbClr val="000000"/>
                </a:solidFill>
                <a:latin typeface="Arial"/>
                <a:ea typeface="Calibri"/>
              </a:rPr>
              <a:t> They can negotiate and influence whilst listening to and retaining respect for others and create a climate that recognises and appreciates the skills and contributions of a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veloping Peop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nspires and Supports others to realise potenti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recognise and praise the achievements of others.  They encourage</a:t>
            </a:r>
            <a:r>
              <a:rPr b="1" lang="en-GB" sz="1000" spc="-1" strike="noStrike">
                <a:solidFill>
                  <a:srgbClr val="00b050"/>
                </a:solidFill>
                <a:latin typeface="Arial"/>
                <a:ea typeface="Calibri"/>
              </a:rPr>
              <a:t> </a:t>
            </a:r>
            <a:r>
              <a:rPr b="0" lang="en-GB" sz="1000" spc="-1" strike="noStrike">
                <a:solidFill>
                  <a:srgbClr val="000000"/>
                </a:solidFill>
                <a:latin typeface="Arial"/>
                <a:ea typeface="Calibri"/>
              </a:rPr>
              <a:t>team working and empower and enable others to develop and succeed  by providing appropriate and timely feedback and development opportunities. They foster an atmosphere of trust and shared leadership to enable others to accept responsibilities, and provide direction and support to others by coaching and mentoring where requi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TextBox 8"/>
          <p:cNvSpPr/>
          <p:nvPr/>
        </p:nvSpPr>
        <p:spPr>
          <a:xfrm>
            <a:off x="6786720" y="77760"/>
            <a:ext cx="2247840" cy="733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ull Description of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ement behaviou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der “Collaborative &amp; Interpersonal Leadership</a:t>
            </a:r>
            <a:r>
              <a:rPr b="1" lang="en-GB" sz="1200" spc="-1" strike="noStrike">
                <a:solidFill>
                  <a:srgbClr val="000000"/>
                </a:solidFill>
                <a:latin typeface="Arial"/>
              </a:rPr>
              <a:t>”</a:t>
            </a:r>
            <a:endParaRPr b="0" lang="en-US" sz="1200" spc="-1" strike="noStrike">
              <a:solidFill>
                <a:srgbClr val="000000"/>
              </a:solidFill>
              <a:latin typeface="Arial"/>
            </a:endParaRPr>
          </a:p>
        </p:txBody>
      </p:sp>
      <p:pic>
        <p:nvPicPr>
          <p:cNvPr id="51" name="Picture 6" descr=""/>
          <p:cNvPicPr/>
          <p:nvPr/>
        </p:nvPicPr>
        <p:blipFill>
          <a:blip r:embed="rId1"/>
          <a:stretch/>
        </p:blipFill>
        <p:spPr>
          <a:xfrm>
            <a:off x="7126200" y="5877000"/>
            <a:ext cx="1908360" cy="58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Rounded Rectangle 4"/>
          <p:cNvGrpSpPr/>
          <p:nvPr/>
        </p:nvGrpSpPr>
        <p:grpSpPr>
          <a:xfrm>
            <a:off x="1822320" y="201600"/>
            <a:ext cx="4975200" cy="6669000"/>
            <a:chOff x="1822320" y="201600"/>
            <a:chExt cx="4975200" cy="6669000"/>
          </a:xfrm>
        </p:grpSpPr>
        <p:pic>
          <p:nvPicPr>
            <p:cNvPr id="53" name="Rounded Rectangle 4" descr=""/>
            <p:cNvPicPr/>
            <p:nvPr/>
          </p:nvPicPr>
          <p:blipFill>
            <a:blip r:embed="rId1"/>
            <a:stretch/>
          </p:blipFill>
          <p:spPr>
            <a:xfrm>
              <a:off x="1822320" y="201600"/>
              <a:ext cx="4975200" cy="6669000"/>
            </a:xfrm>
            <a:prstGeom prst="rect">
              <a:avLst/>
            </a:prstGeom>
            <a:ln w="0">
              <a:noFill/>
            </a:ln>
          </p:spPr>
        </p:pic>
        <p:sp>
          <p:nvSpPr>
            <p:cNvPr id="54" name=""/>
            <p:cNvSpPr/>
            <p:nvPr/>
          </p:nvSpPr>
          <p:spPr>
            <a:xfrm>
              <a:off x="2077920" y="455760"/>
              <a:ext cx="4467240" cy="616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3"/>
          <p:cNvSpPr/>
          <p:nvPr/>
        </p:nvSpPr>
        <p:spPr>
          <a:xfrm>
            <a:off x="2108160" y="0"/>
            <a:ext cx="4572000" cy="72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livery/Resul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Creative Thinking &amp; Problem Solv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Has the courage and confidence to constructively challenge how things are done and generates original ideas and solutions to achieve 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continually look for better ways of doing things.  They can identify trends; assess situations and spot issues or opportunities that others may miss. Using this ability, they promote creative and innovative ways of thinking and working to take a new look at issues or problems. They seek out and implement different ways to effectively resolve th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cision Making, Prioritising, Planning &amp; Organis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Makes effective decisions, plans and organises to achieve</a:t>
            </a:r>
            <a:r>
              <a:rPr b="1" lang="en-GB" sz="1000" spc="-1" strike="noStrike">
                <a:solidFill>
                  <a:srgbClr val="000000"/>
                </a:solidFill>
                <a:latin typeface="Arial"/>
                <a:ea typeface="Calibri"/>
              </a:rPr>
              <a:t> </a:t>
            </a:r>
            <a:r>
              <a:rPr b="0" lang="en-GB" sz="1000" spc="-1" strike="noStrike">
                <a:solidFill>
                  <a:srgbClr val="000000"/>
                </a:solidFill>
                <a:latin typeface="Arial"/>
                <a:ea typeface="Calibri"/>
              </a:rPr>
              <a:t>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have the self confidence to evaluate the alternatives, measure risks and involve the appropriate people before making decisions.  They act with conviction and are clear in prioritising what needs to be achieved and participate in and contribute to the planning process within their area.  They ensure that individual and team activities are planned, organised and delegated in a fair and consistent manner to achieve appropriate, timely and quality results required for both internal and external custom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Using Resour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s aware of and makes use of financial and physical resources as well as the resources of people and time to achieve 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have sufficient commercial awareness to allow them to identify the physical and financial resources required to enable them to deliver their objectives.  They can contribute to resource and financial planning within their own area and effectively manage those resources to achieve results, by monitoring their effective use, providing value for money, adapting when priorities change, and planning for contingency and business continuity where requi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TextBox 5"/>
          <p:cNvSpPr/>
          <p:nvPr/>
        </p:nvSpPr>
        <p:spPr>
          <a:xfrm>
            <a:off x="6775560" y="214200"/>
            <a:ext cx="2003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ull Description of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ement behaviou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der “Delivery/Results”</a:t>
            </a:r>
            <a:endParaRPr b="0" lang="en-US" sz="1000" spc="-1" strike="noStrike">
              <a:solidFill>
                <a:srgbClr val="000000"/>
              </a:solidFill>
              <a:latin typeface="Arial"/>
            </a:endParaRPr>
          </a:p>
        </p:txBody>
      </p:sp>
      <p:sp>
        <p:nvSpPr>
          <p:cNvPr id="57" name="Rectangle 6"/>
          <p:cNvSpPr/>
          <p:nvPr/>
        </p:nvSpPr>
        <p:spPr>
          <a:xfrm>
            <a:off x="6764400" y="189000"/>
            <a:ext cx="2379600" cy="642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
          <p:cNvPicPr/>
          <p:nvPr/>
        </p:nvPicPr>
        <p:blipFill>
          <a:blip r:embed="rId2"/>
          <a:stretch/>
        </p:blipFill>
        <p:spPr>
          <a:xfrm>
            <a:off x="723600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0:26:59Z</dcterms:created>
  <dc:creator>IS</dc:creator>
  <dc:description/>
  <dc:language>en-US</dc:language>
  <cp:lastModifiedBy>Kerri-Anne Craig</cp:lastModifiedBy>
  <dcterms:modified xsi:type="dcterms:W3CDTF">2017-08-07T13:33:37Z</dcterms:modified>
  <cp:revision>146</cp:revision>
  <dc:subject/>
  <dc:title>Slide 1</dc:title>
</cp:coreProperties>
</file>